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CC8-DB7E-4369-8DE6-AEB85629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D5B-A6FD-49D2-BFD0-0DE442EC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D9B-47C4-439B-9C60-6A9597EE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14A-E39F-4F7B-BED8-D19BE119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6F3-9E78-4003-A66A-AF19D728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6CE-F2E6-4360-B29B-C76AE4C3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F01A-F95D-4960-AA67-A8FD7D41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050-503E-48B7-8DF9-1E50E95B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A0D-8C1A-4064-BD78-E2F110BF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C07-87E4-4FEE-8DD0-825EC1E5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465B-7BCE-4863-9FAF-F32CF8E2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FDA-5D96-4355-BFEC-0C377009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0A99-B97B-4513-A22F-9D3124723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siestaracing.com/frontpage/siesta_hyc_small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 Marcel Ma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352680" y="457200"/>
            <a:ext cx="2714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 Famill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046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 Mè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 Pè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5486400" cy="2301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3657600" cy="302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403848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 Frè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495680" cy="2997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24280" y="4116240"/>
            <a:ext cx="3905280" cy="262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562720" y="990720"/>
            <a:ext cx="2781360" cy="278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38080" y="4419720"/>
            <a:ext cx="34671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 Ch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961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 Frè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9048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9:52:43Z</dcterms:created>
  <dc:creator>10lamphm</dc:creator>
  <dc:description/>
  <dc:language>en-US</dc:language>
  <cp:lastModifiedBy>10lamphm</cp:lastModifiedBy>
  <dcterms:modified xsi:type="dcterms:W3CDTF">2008-05-13T20:12:41Z</dcterms:modified>
  <cp:revision>3</cp:revision>
  <dc:subject/>
  <dc:title> </dc:title>
</cp:coreProperties>
</file>